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07A-B25F-44D4-8EE9-8BC0A184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D8F-019C-476B-ABFB-D8B09FF4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9DF-EF80-44D8-8003-58A7E656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663-9C0B-4B69-926D-BE68F6B1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967-9646-4899-BBF1-193D0C49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C0C-CBFA-4BBA-8F69-26248F94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76F-888A-4135-97CE-61329002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AF6-E36E-47BE-BCAD-DE3AC361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EA5-492D-40E0-ACF1-ACD3DB6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2AC-C42A-406F-B966-82CE6A5D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BF4-F4CA-408B-80C8-B591889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963-CCE0-49A2-88BA-FA715472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AFDE-1DC5-40A4-AD67-282D01CBBC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0574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of 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Frequency-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2968560"/>
            <a:ext cx="7467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72680" y="2438280"/>
            <a:ext cx="589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stimating Ris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88920" y="518148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ly, CI is not equivalent to Individual Ris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ut these two terms are often used interchangeab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487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562720" cy="243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990720"/>
            <a:ext cx="6172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1752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533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5867280"/>
            <a:ext cx="69343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5120" y="2362320"/>
            <a:ext cx="707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hifting the Coho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10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4498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7160" y="5257800"/>
            <a:ext cx="780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if we allow subjects to enter the coh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fterthe start of the stu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905120"/>
            <a:ext cx="17524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162560" cy="4952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029200" y="990720"/>
            <a:ext cx="609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25938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31520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7315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2689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4674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705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6:53Z</dcterms:modified>
  <cp:revision>177</cp:revision>
  <dc:subject/>
  <dc:title>Slide 1</dc:title>
</cp:coreProperties>
</file>